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5C2A-B553-4B63-96CA-639DF128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In many countries, such as the United States, Japan, and much of Europ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the growth rate has slow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These countries have completed the </a:t>
            </a:r>
            <a:r>
              <a:rPr b="1" i="1" lang="en-US" sz="1200" spc="-1" strike="noStrike">
                <a:solidFill>
                  <a:srgbClr val="008000"/>
                </a:solidFill>
                <a:latin typeface="Calibri"/>
              </a:rPr>
              <a:t>demographic transition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a term used to describe a dramatic change in birth and death rates. 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As a society becomes more modern, there is a higher educational level.  As the standard of living increases, families hav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fewer children</a:t>
            </a: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The demographic transition is said to be complete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the birthrate falls to meet the death rate, and the population stops gr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B5A-59B5-4ED4-90A8-A3BFD534F1E9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0"/>
                </a:solidFill>
                <a:latin typeface="Calibri"/>
              </a:rPr>
              <a:t>Each bar in the diagram represents individuals within a 5-year range.  Males are shown to the left of the center line.  Females are shown to the right of the cent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FDBF-A432-410F-BCD8-D695BE78F981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CAB6-FB38-44E7-AAD2-F3047BC7EFD8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A256-562B-4D52-8E8F-89644A778B05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723-DF1C-48F2-AC17-07CC3E750F8F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DF9-11DC-457B-A440-3B636356BDB6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EC9-1D98-4716-A068-CFE695D2DFB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64D-A2DC-4F05-BC86-5D9B34F466DA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D6C-DA3D-4236-A0EE-E39807FF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CB0-B2DA-40F1-A4F5-26B6BC4A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716-F166-47D7-BC9A-026ABEE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37B-554B-433F-89E3-FE49439E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0213-27F9-4190-ACE7-8B8C8E26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AF7-F63D-4065-BE88-50E589DB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91D8-D391-4184-BB20-95748DC0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35BF-DA9F-4B1E-B3FE-499BC2D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FA1B-C7AD-45CA-92A5-81F2DBBE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D76F-CAE9-4DD4-9B64-FEF0942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C077-8CE6-44E5-AD43-1167EED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B98-B378-4D07-A21B-FE8B499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A343-B0E4-4E2C-8A7D-16CB2A9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02E-3741-44BF-AE7C-B54D6B1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7C45-95F7-46AB-9258-59E5DD4F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60D1-C48C-43F3-A2DE-97D89298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B133-3821-4058-BA55-E7050A4D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71EC-26D0-40E7-99F7-9E3D504E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6D92-AC44-4D03-A943-4D6C335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6D48-C576-475B-A4E9-7E70ACF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7B01-05D7-45A9-A966-8D46F34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0278-A08C-4F6C-8D1E-6453D1E8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E04-D454-4610-BDAD-F6B344F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5986-CA47-4B99-88C9-4ECA3AEE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7C2E-F60E-4863-8777-79B4066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9CC7-240E-4968-8AD7-FDB1AFF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3A18-4162-4AB6-96B4-B949F8CD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5C87-6965-4820-8714-68BD3E2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546E-4952-4E0A-948B-42B4B468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0B78-DD76-4F0B-B675-4366182B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0CF5-7890-485C-9BB2-9154F08C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FD91-662E-4458-8BB8-F79E8E0E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1FAA-0771-4415-B682-A81F0B4F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FE9-0936-4903-A517-7DC7521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8FE1-1221-467D-94DE-8AA4F124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A665-CEB1-40F0-90F7-254E1D2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0E02-B3AB-48F5-8C5B-ABB4F57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2FB7-89D0-4A21-AEFF-745B925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07CF-1D00-4FD4-89B0-A32A5ED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237E-CC1D-4EEE-B76E-98D6938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B498-FF30-4235-B69D-089A0988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FF53-6E4B-4AF0-B65B-60A7890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1F43-6596-4A3C-88CC-6F05967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F1DA-8559-4459-A648-7CBA5E8D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56B-E34E-4EA8-A075-B1DC8D5D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304E-B6A4-4DA9-97B9-DE04E94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3A44-C63E-439C-B5AA-78CB4F0D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4BFB-C7A5-4967-93AA-04450592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EE46-F308-42E0-820A-5DC5BBC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9D80-AB06-4BCB-B75F-0470648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14D7-052A-4662-B2A8-A547134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D167-5BE7-49CE-9C77-789C275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BFA11-1C7E-44DD-93D1-AE14CE8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EDB69-2280-43A0-9EB3-77F83B0C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A1A6-3E26-456B-BDD1-7D47B1C6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E8B-2E65-4277-A5A8-FE34D9F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98EC-BD86-42A4-9838-5BC1B480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7CEE-05B7-4BA4-88A0-1221D10C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E3C4D-73A1-4FF2-9824-3C009C3B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56D4-8748-46CB-AE18-E227866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042F9-A235-4951-8E6D-D8C397E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DA65-5EA7-4B14-AB7E-6A703EDF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B04A5-C2F8-4CC1-8B22-B3AD0A62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EE32-0B4F-4B09-BDB3-53B2585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A933-28ED-4EC4-8022-3923093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87FCE-2B93-48D5-91FD-DAAEE07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95F-3718-49BB-805F-819B5203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B51D-1125-4F6D-B1FA-E5078C8B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7176-861B-473E-B304-CE33C948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45D9-4422-4555-A65F-37E975E9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FC92-C38C-408A-9151-0DF70120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5FFA-84FC-413F-A28C-42B72F3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D7120-5790-4954-826B-BE6DC57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E586-BCF7-4E53-8241-74BE253A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294EA-F1EE-46E1-931F-4A6F311C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2CEF3-1DC2-490A-987D-B8B22ACF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1D53-D609-4E7D-A16C-298FED52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E18-68A8-451E-BCB6-063DD46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3054-4520-4987-AC98-2E9D5CA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FE69-1991-462D-BEE0-0402F35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80A2-8571-4A80-B795-37E2FAA9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21F10-111E-4F33-92EA-BCBF41E7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DA21-AE1F-4B1F-A3ED-789D4FFC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BBFDA-58DF-4A2D-BA9F-86D3F18C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FC0B-B765-4A53-BA6D-A055189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B880-A098-421F-B756-03DC9D59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94415-EFC7-4EA2-8371-01371CD7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9B7A-BBCF-464A-B441-A1803635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CD9-2806-4B34-9FD2-FD44EF4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390C8-EA92-4737-A609-6FD1D95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0056-5525-4111-BE7A-04A0CB9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98A9C-60D9-4418-A061-82E4EF46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5CF3A-304E-41D8-88DE-8B0BB7D8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E7E2E-AC03-4139-B5AE-FA6BAA0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94B3F-B5EB-4E5A-BB9B-80D5268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A3FC-0E7E-438A-AB2A-8DC56F25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3FFC-59F1-40C5-82C8-B799C102247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A159-62A8-425A-BBC4-4443CC6793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E7AC-9A82-43A3-A952-86ABC0DF38A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00D-0C0B-4EE2-9A77-8823D1BD72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37E7-358A-4B32-B7B2-F85D465CA84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508F-A226-44EB-87EF-62A6E1312B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4801-2390-4D0A-B60F-18E28A827DF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6DE6-1D18-46B4-ACCD-CCB384E61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2C90-0967-40CE-B1BF-829C8868244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3D21-855C-4783-ACCB-6F4EF5F03F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005-A04B-44ED-B84C-B3CD29383BE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2B2-93F4-40BF-80F1-80C048C663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F753-28E4-4F5B-B397-70C96D7CCDC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F898-352E-4A57-AF54-B3A3CF707C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1565-9E1A-4D7A-A8D5-EBF04C4EDAC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6863-5C69-413A-AF6C-0F154B2FF0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8000" y="3651120"/>
            <a:ext cx="85467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penguins.jpg"/>
          <p:cNvPicPr/>
          <p:nvPr/>
        </p:nvPicPr>
        <p:blipFill>
          <a:blip r:embed="rId2"/>
          <a:stretch/>
        </p:blipFill>
        <p:spPr>
          <a:xfrm>
            <a:off x="152280" y="152280"/>
            <a:ext cx="445140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wildflower.jpg"/>
          <p:cNvPicPr/>
          <p:nvPr/>
        </p:nvPicPr>
        <p:blipFill>
          <a:blip r:embed="rId3"/>
          <a:stretch/>
        </p:blipFill>
        <p:spPr>
          <a:xfrm>
            <a:off x="4800600" y="152280"/>
            <a:ext cx="4192560" cy="2971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0" y="6550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Lucida Sans Unicode"/>
              </a:rPr>
              <a:t>© Amy Brown (Science Stuff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400px-World_population.svg.png"/>
          <p:cNvPicPr/>
          <p:nvPr/>
        </p:nvPicPr>
        <p:blipFill>
          <a:blip r:embed="rId1"/>
          <a:stretch/>
        </p:blipFill>
        <p:spPr>
          <a:xfrm>
            <a:off x="-76320" y="609480"/>
            <a:ext cx="9495000" cy="43452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"/>
          <p:cNvSpPr/>
          <p:nvPr/>
        </p:nvSpPr>
        <p:spPr>
          <a:xfrm>
            <a:off x="3200400" y="5257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171e"/>
                </a:solidFill>
                <a:latin typeface="Lucida Sans Unicode"/>
              </a:rPr>
              <a:t>This is a map of the world's countries by total population, with darker shading indicating larger popul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umans 2.jpg"/>
          <p:cNvPicPr/>
          <p:nvPr/>
        </p:nvPicPr>
        <p:blipFill>
          <a:blip r:embed="rId2"/>
          <a:stretch/>
        </p:blipFill>
        <p:spPr>
          <a:xfrm>
            <a:off x="304920" y="914400"/>
            <a:ext cx="4346280" cy="28954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4800600" y="76212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The demographic transition has occurred in only a few countries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04920" y="4495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ever, most of the world population is still growing ______________.  Most of the world population is contributed to about 10 countries, with India and China in the le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05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06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Make 3 observation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08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370px-Angola_population_pyramid_2005.svg.png"/>
          <p:cNvPicPr/>
          <p:nvPr/>
        </p:nvPicPr>
        <p:blipFill>
          <a:blip r:embed="rId1"/>
          <a:stretch/>
        </p:blipFill>
        <p:spPr>
          <a:xfrm>
            <a:off x="1295280" y="1447920"/>
            <a:ext cx="6586560" cy="3381120"/>
          </a:xfrm>
          <a:prstGeom prst="rect">
            <a:avLst/>
          </a:prstGeom>
          <a:ln w="0">
            <a:noFill/>
          </a:ln>
        </p:spPr>
      </p:pic>
      <p:grpSp>
        <p:nvGrpSpPr>
          <p:cNvPr id="411" name="TextBox 2"/>
          <p:cNvGrpSpPr/>
          <p:nvPr/>
        </p:nvGrpSpPr>
        <p:grpSpPr>
          <a:xfrm>
            <a:off x="596880" y="60480"/>
            <a:ext cx="8034480" cy="896760"/>
            <a:chOff x="596880" y="60480"/>
            <a:chExt cx="8034480" cy="896760"/>
          </a:xfrm>
        </p:grpSpPr>
        <p:pic>
          <p:nvPicPr>
            <p:cNvPr id="412" name="TextBox 2" descr=""/>
            <p:cNvPicPr/>
            <p:nvPr/>
          </p:nvPicPr>
          <p:blipFill>
            <a:blip r:embed="rId2"/>
            <a:stretch/>
          </p:blipFill>
          <p:spPr>
            <a:xfrm>
              <a:off x="596880" y="60480"/>
              <a:ext cx="80344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85800" y="152280"/>
              <a:ext cx="784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ucida Sans Unicode"/>
                </a:rPr>
                <a:t>Age-Structure Diagrams</a:t>
              </a:r>
              <a:endParaRPr b="0" lang="en-US" sz="4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4" name="Rectangle 3"/>
          <p:cNvSpPr/>
          <p:nvPr/>
        </p:nvSpPr>
        <p:spPr>
          <a:xfrm>
            <a:off x="0" y="5027760"/>
            <a:ext cx="4495680" cy="180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235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fa7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572000" y="5067360"/>
            <a:ext cx="457200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 future growth of a is predicted us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3eef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age structure 2.jpg"/>
          <p:cNvPicPr/>
          <p:nvPr/>
        </p:nvPicPr>
        <p:blipFill>
          <a:blip r:embed="rId1"/>
          <a:stretch/>
        </p:blipFill>
        <p:spPr>
          <a:xfrm>
            <a:off x="-15840" y="0"/>
            <a:ext cx="9058320" cy="48006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-152280" y="4800600"/>
            <a:ext cx="1021068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9" name="Picture 5" descr="population_pyramid_growi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Oval 8"/>
            <p:cNvSpPr/>
            <p:nvPr/>
          </p:nvSpPr>
          <p:spPr>
            <a:xfrm>
              <a:off x="761760" y="4953240"/>
              <a:ext cx="7010640" cy="99036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2286000" y="3352680"/>
              <a:ext cx="3809880" cy="16002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3276720" y="990360"/>
              <a:ext cx="1752480" cy="236232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3" name="Text Box 7"/>
            <p:cNvSpPr/>
            <p:nvPr/>
          </p:nvSpPr>
          <p:spPr>
            <a:xfrm>
              <a:off x="2339640" y="5158080"/>
              <a:ext cx="37717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4" name="Text Box 9"/>
            <p:cNvSpPr/>
            <p:nvPr/>
          </p:nvSpPr>
          <p:spPr>
            <a:xfrm>
              <a:off x="2781360" y="3981600"/>
              <a:ext cx="28191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2360880" y="2014920"/>
              <a:ext cx="385452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age structure 2.jpg"/>
          <p:cNvPicPr/>
          <p:nvPr/>
        </p:nvPicPr>
        <p:blipFill>
          <a:blip r:embed="rId1"/>
          <a:srcRect l="0" t="9529" r="0" b="0"/>
          <a:stretch/>
        </p:blipFill>
        <p:spPr>
          <a:xfrm>
            <a:off x="0" y="990720"/>
            <a:ext cx="905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28" name="Rectangle 2"/>
          <p:cNvSpPr/>
          <p:nvPr/>
        </p:nvSpPr>
        <p:spPr>
          <a:xfrm>
            <a:off x="380880" y="152280"/>
            <a:ext cx="84582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 A and 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Make 3 observ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1523880"/>
            <a:ext cx="447516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30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761000" y="914400"/>
            <a:ext cx="407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 many more _________ than ______ groups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Sans Unicode"/>
              </a:rPr>
              <a:t>In each higher age group, there are fewer and fewer individua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age structure.jpeg"/>
          <p:cNvPicPr/>
          <p:nvPr/>
        </p:nvPicPr>
        <p:blipFill>
          <a:blip r:embed="rId1"/>
          <a:stretch/>
        </p:blipFill>
        <p:spPr>
          <a:xfrm>
            <a:off x="152280" y="838080"/>
            <a:ext cx="4910400" cy="443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433" name="Rectangle 2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1e7f"/>
                </a:solidFill>
                <a:latin typeface="Lucida Sans Unicode"/>
              </a:rPr>
              <a:t>Look at the age structure of population B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4120" y="83808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re a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can reasonably be predicted that population A will experienc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______ growth in the fu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MC900434385.WMF"/>
          <p:cNvPicPr/>
          <p:nvPr/>
        </p:nvPicPr>
        <p:blipFill>
          <a:blip r:embed="rId1"/>
          <a:stretch/>
        </p:blipFill>
        <p:spPr>
          <a:xfrm>
            <a:off x="380880" y="2209680"/>
            <a:ext cx="2946600" cy="2675160"/>
          </a:xfrm>
          <a:prstGeom prst="rect">
            <a:avLst/>
          </a:prstGeom>
          <a:ln w="0">
            <a:noFill/>
          </a:ln>
        </p:spPr>
      </p:pic>
      <p:grpSp>
        <p:nvGrpSpPr>
          <p:cNvPr id="382" name="Rectangle 2"/>
          <p:cNvGrpSpPr/>
          <p:nvPr/>
        </p:nvGrpSpPr>
        <p:grpSpPr>
          <a:xfrm>
            <a:off x="542880" y="244440"/>
            <a:ext cx="7935840" cy="1279440"/>
            <a:chOff x="542880" y="244440"/>
            <a:chExt cx="7935840" cy="1279440"/>
          </a:xfrm>
        </p:grpSpPr>
        <p:pic>
          <p:nvPicPr>
            <p:cNvPr id="383" name="Rectangle 2" descr=""/>
            <p:cNvPicPr/>
            <p:nvPr/>
          </p:nvPicPr>
          <p:blipFill>
            <a:blip r:embed="rId2"/>
            <a:stretch/>
          </p:blipFill>
          <p:spPr>
            <a:xfrm>
              <a:off x="542880" y="244440"/>
              <a:ext cx="79358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24960" y="380880"/>
              <a:ext cx="78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Lucida Sans Unicode"/>
                </a:rPr>
                <a:t>Human Population Growth</a:t>
              </a:r>
              <a:r>
                <a:rPr b="0" lang="en-US" sz="4400" spc="-1" strike="noStrike">
                  <a:solidFill>
                    <a:srgbClr val="ffffff"/>
                  </a:solidFill>
                  <a:latin typeface="Lucida Sans Unicode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85" name="Rectangle 3"/>
          <p:cNvSpPr/>
          <p:nvPr/>
        </p:nvSpPr>
        <p:spPr>
          <a:xfrm>
            <a:off x="3657600" y="1523880"/>
            <a:ext cx="510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For most of human existence, the population grew very slowl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Limiting factors that kept the human population low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57200" y="304920"/>
            <a:ext cx="8458200" cy="253116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About 500 years ago, the human population began to grow at a staggering rate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Lucida Sans Unicode"/>
              </a:rPr>
              <a:t>What factors do you think effected growth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  <p:sp>
        <p:nvSpPr>
          <p:cNvPr id="388" name="TextBox 2"/>
          <p:cNvSpPr/>
          <p:nvPr/>
        </p:nvSpPr>
        <p:spPr>
          <a:xfrm>
            <a:off x="6094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3 observations  about this gra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humpop_2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Intel HD:Users:a3smith:Desktop:human population.jpg"/>
          <p:cNvPicPr/>
          <p:nvPr/>
        </p:nvPicPr>
        <p:blipFill>
          <a:blip r:embed="rId1"/>
          <a:stretch/>
        </p:blipFill>
        <p:spPr>
          <a:xfrm>
            <a:off x="152280" y="1295280"/>
            <a:ext cx="4800600" cy="3810240"/>
          </a:xfrm>
          <a:prstGeom prst="rect">
            <a:avLst/>
          </a:prstGeom>
          <a:ln cap="sq" w="38160">
            <a:solidFill>
              <a:srgbClr val="1fae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"/>
          <p:cNvSpPr/>
          <p:nvPr/>
        </p:nvSpPr>
        <p:spPr>
          <a:xfrm>
            <a:off x="228600" y="838080"/>
            <a:ext cx="8686800" cy="2104920"/>
          </a:xfrm>
          <a:prstGeom prst="rect">
            <a:avLst/>
          </a:prstGeom>
          <a:solidFill>
            <a:srgbClr val="39639d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Sans Unicode"/>
              </a:rPr>
              <a:t>What type of growth have humans experienced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arrying.png"/>
          <p:cNvPicPr/>
          <p:nvPr/>
        </p:nvPicPr>
        <p:blipFill>
          <a:blip r:embed="rId1"/>
          <a:stretch/>
        </p:blipFill>
        <p:spPr>
          <a:xfrm>
            <a:off x="152280" y="152280"/>
            <a:ext cx="3200400" cy="3664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377820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3835440" y="1828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anno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228600" y="38862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MS PGothic"/>
              </a:rPr>
              <a:t>The questions to be answered are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hen will we reach the limit of these resources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How large will the population get?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  <a:ea typeface="MS PGothic"/>
              </a:rPr>
              <a:t>Will the planet be able to support this huge human populat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4191120" y="228600"/>
            <a:ext cx="4724280" cy="2775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uman population grows exponentially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" descr="MC900078708.WMF"/>
          <p:cNvPicPr/>
          <p:nvPr/>
        </p:nvPicPr>
        <p:blipFill>
          <a:blip r:embed="rId1"/>
          <a:stretch/>
        </p:blipFill>
        <p:spPr>
          <a:xfrm>
            <a:off x="0" y="2438280"/>
            <a:ext cx="455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21:42:46Z</dcterms:created>
  <dc:creator>Roman-Wensing, Kayla</dc:creator>
  <dc:description/>
  <cp:keywords/>
  <dc:language>en-US</dc:language>
  <cp:lastModifiedBy>Roman-Wensing, Kayla</cp:lastModifiedBy>
  <dcterms:modified xsi:type="dcterms:W3CDTF">2018-05-06T19:53:37Z</dcterms:modified>
  <cp:revision>150</cp:revision>
  <dc:subject/>
  <dc:title>Population Ec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1600619991</vt:lpwstr>
  </property>
</Properties>
</file>